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3.gif" ContentType="image/gif"/>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move the slide</a:t>
            </a:r>
            <a:endParaRPr b="0" lang="en-US" sz="6600" spc="-1" strike="noStrike">
              <a:solidFill>
                <a:srgbClr val="ccffff"/>
              </a:solidFill>
              <a:latin typeface="Tahom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A8F2-9963-4B6F-AFF0-DB48C30FCF2C}" type="slidenum">
              <a:rPr b="0"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que l’élève fera sa présentation et qu’il visionnera les diapositives, l’apparition des différents éléments ne sera pas automatique. De cette manière, il pourra faire apparaître les éléments en fonction des réponses du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que l’élève fera sa présentation et qu’il visionnera les diapositives, l’apparition des différents éléments ne sera pas automatique. De cette manière, il pourra faire apparaître les éléments en fonction des réponses du publi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sque l’élève fera sa présentation et qu’il visionnera les diapositives, l’apparition des différents éléments ne sera pas automatique. De cette manière, il pourra faire apparaître les éléments en fonction des réponses du publi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EE4F9-AD70-43F3-BF13-438C445B4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45B67-8749-4B63-A5A5-AEA6489F4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58927-1224-4C5F-9144-CD4EEA6DA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7FE3A-846E-4980-B444-E78C90D58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67184-F5ED-468E-AB8E-C750FA8FC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DD9B0-B9AA-4AED-BFBA-E96A111B5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B1E7C-4EA7-4386-97C6-9296B3B66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FAFE8-08AF-4B78-A7C8-99B5F7A51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71E63-A7F8-4890-B319-CE7305871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9A1A9-357D-4D29-BFE7-ADD70FB01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11ED1-DC35-4A9E-AE04-3DE9714E7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02639-7A58-4695-BEF1-7B398E951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7BED9-05A4-4869-907B-E9AE49071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638EB-8C65-429B-999A-FC38D5BD3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0CF2C-5E2D-4B28-80CE-469E1179D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87237-F2FF-4A97-8116-D092CF861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37585-4274-48D6-B823-5BAB0B3E8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8BB83-ACC4-43F6-851D-BB8AB1C38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B7CEE-233F-4E6D-ACBC-107B39786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54C83-A33C-4B24-84E8-A3C64DADA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5F209-5B48-4982-94D3-8F0679F94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6B3B0-2AB6-4142-A790-B793BF5B9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DFBCE-F0CC-490C-A1C7-EB0B32B39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9E943-003D-498A-A321-34B9C2B0B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B584-1EE8-4CDC-B634-7AE2DBCC5CC3}"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3D9F-7FC5-4E4C-9A43-D85095F21E1C}" type="slidenum">
              <a:rPr b="0" lang="fr-FR"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360" y="2177280"/>
            <a:ext cx="7467480" cy="1099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empus Sans ITC"/>
              </a:rPr>
              <a:t>Petite énigme…</a:t>
            </a:r>
            <a:endParaRPr b="0" lang="en-US" sz="66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empus Sans ITC"/>
              </a:rPr>
              <a:t>QUI SUIS-JE ?</a:t>
            </a:r>
            <a:endParaRPr b="0" lang="en-US" sz="4000" spc="-1" strike="noStrike">
              <a:solidFill>
                <a:srgbClr val="ccec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143000"/>
            <a:ext cx="7315200" cy="457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Rage Italic"/>
              </a:rPr>
              <a:t>Sans moi,</a:t>
            </a:r>
            <a:br>
              <a:rPr sz="4000"/>
            </a:br>
            <a:r>
              <a:rPr b="0" lang="en-US" sz="4000" spc="-1" strike="noStrike">
                <a:solidFill>
                  <a:srgbClr val="ccffff"/>
                </a:solidFill>
                <a:latin typeface="Rage Italic"/>
              </a:rPr>
              <a:t>L’ânon dit non</a:t>
            </a:r>
            <a:endParaRPr b="0" lang="en-US" sz="4000" spc="-1" strike="noStrike">
              <a:solidFill>
                <a:srgbClr val="ccffff"/>
              </a:solidFill>
              <a:latin typeface="Tahoma"/>
            </a:endParaRPr>
          </a:p>
        </p:txBody>
      </p:sp>
      <p:sp>
        <p:nvSpPr>
          <p:cNvPr id="95" name="PlaceHolder 2"/>
          <p:cNvSpPr>
            <a:spLocks noGrp="1"/>
          </p:cNvSpPr>
          <p:nvPr>
            <p:ph/>
          </p:nvPr>
        </p:nvSpPr>
        <p:spPr>
          <a:xfrm>
            <a:off x="685800" y="2514600"/>
            <a:ext cx="3657600" cy="8380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age Italic"/>
              </a:rPr>
              <a:t>La craie crie</a:t>
            </a:r>
            <a:endParaRPr b="0" lang="en-US" sz="4000" spc="-1" strike="noStrike">
              <a:solidFill>
                <a:srgbClr val="ffffff"/>
              </a:solidFill>
              <a:latin typeface="Tahoma"/>
            </a:endParaRPr>
          </a:p>
        </p:txBody>
      </p:sp>
      <p:sp>
        <p:nvSpPr>
          <p:cNvPr id="96" name="PlaceHolder 3"/>
          <p:cNvSpPr>
            <a:spLocks noGrp="1"/>
          </p:cNvSpPr>
          <p:nvPr>
            <p:ph/>
          </p:nvPr>
        </p:nvSpPr>
        <p:spPr>
          <a:xfrm>
            <a:off x="609480" y="3733920"/>
            <a:ext cx="3810240" cy="1371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99ff"/>
                </a:solidFill>
                <a:latin typeface="Rage Italic"/>
              </a:rPr>
              <a:t>Et la laisse devient lisse</a:t>
            </a:r>
            <a:endParaRPr b="0" lang="en-US" sz="4000" spc="-1" strike="noStrike">
              <a:solidFill>
                <a:srgbClr val="ffffff"/>
              </a:solidFill>
              <a:latin typeface="Tahoma"/>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97" name="AG00406_" descr=""/>
          <p:cNvPicPr/>
          <p:nvPr/>
        </p:nvPicPr>
        <p:blipFill>
          <a:blip r:embed="rId2"/>
          <a:stretch/>
        </p:blipFill>
        <p:spPr>
          <a:xfrm>
            <a:off x="5334120" y="2514600"/>
            <a:ext cx="2103480" cy="1736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590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Jokerman"/>
              </a:rPr>
              <a:t>Je suis la lettre A !!!</a:t>
            </a:r>
            <a:endParaRPr b="0" lang="en-US" sz="5400" spc="-1" strike="noStrike">
              <a:solidFill>
                <a:srgbClr val="ccffff"/>
              </a:solidFill>
              <a:latin typeface="Tahoma"/>
            </a:endParaRPr>
          </a:p>
        </p:txBody>
      </p:sp>
      <p:pic>
        <p:nvPicPr>
          <p:cNvPr id="99" name="AG00319_" descr=""/>
          <p:cNvPicPr/>
          <p:nvPr/>
        </p:nvPicPr>
        <p:blipFill>
          <a:blip r:embed="rId2"/>
          <a:stretch/>
        </p:blipFill>
        <p:spPr>
          <a:xfrm>
            <a:off x="3657600" y="380880"/>
            <a:ext cx="1943280" cy="1406520"/>
          </a:xfrm>
          <a:prstGeom prst="rect">
            <a:avLst/>
          </a:prstGeom>
          <a:ln w="0">
            <a:noFill/>
          </a:ln>
        </p:spPr>
      </p:pic>
      <p:pic>
        <p:nvPicPr>
          <p:cNvPr id="100" name="j0076134" descr=""/>
          <p:cNvPicPr/>
          <p:nvPr/>
        </p:nvPicPr>
        <p:blipFill>
          <a:blip r:embed="rId3"/>
          <a:stretch/>
        </p:blipFill>
        <p:spPr>
          <a:xfrm>
            <a:off x="3657600" y="4267080"/>
            <a:ext cx="1874880" cy="1793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21:07:39Z</dcterms:created>
  <dc:creator>Usager</dc:creator>
  <dc:description/>
  <dc:language>en-US</dc:language>
  <cp:lastModifiedBy>Jean-Paul Lansun</cp:lastModifiedBy>
  <dcterms:modified xsi:type="dcterms:W3CDTF">2002-12-12T05:20:05Z</dcterms:modified>
  <cp:revision>4</cp:revision>
  <dc:subject/>
  <dc:title>QUI SUIS-JE ? </dc:title>
</cp:coreProperties>
</file>