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move the slide</a:t>
            </a:r>
            <a:endParaRPr b="0" lang="en-US" sz="66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A9BA-4079-44CF-BD32-6F4DDB74FB3C}"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23D08-7D65-434D-A1EC-5D5F34AFA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E07B8-9FAA-4EF6-9006-663076E8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276C9-07E3-4FE5-B383-EE3933CA8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D9AEE-489C-41ED-9565-789130672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8EAB0-0B31-45B7-A012-900823084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FE814-F1E9-424D-A9A6-4F9A39EFA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7C70E-4C92-46C1-BC2D-604B422F0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E5922-9F46-4928-BAD8-E953E722A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8033B-49D0-4790-BC6C-FAABDA58D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B2B4D-36BC-4D08-9923-9858BEDB4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CD90-5523-457E-90B2-61BD77794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64FF-7023-42CC-A9F3-ADFFA04B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4E4B-0708-4F3B-9CFE-6E980184B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E4871-25F2-4889-BC73-5CD04939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280A1-83DF-4B5A-804D-EE7222CC5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67280-75EB-414F-B7B3-4F483E679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D817E-C2FB-4095-8F4F-E49784CA3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570D-354F-4408-8051-F5F626F2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E61F-2ED6-4047-B7F9-C6404E93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01EA-7357-4120-9C16-571FACDC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E3DC-B0DC-433B-8BE5-62DF4BF4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A5DF-B94B-4907-8531-AB621C30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0EDB-4364-4CCB-A2D4-1B7692C0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046A-B70F-4E19-ADD6-85F962AB8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3608-1676-4389-B370-22E943EF7B1D}"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734D-DD73-4B7B-A2BF-2FA8566535C4}" type="slidenum">
              <a:rPr b="0" lang="fr-F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empus Sans ITC"/>
              </a:rPr>
              <a:t>Petite énigme…</a:t>
            </a:r>
            <a:endParaRPr b="0" lang="en-US" sz="66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QUI SUIS-JE ?</a:t>
            </a:r>
            <a:endParaRPr b="0" lang="en-US" sz="4000" spc="-1" strike="noStrike">
              <a:solidFill>
                <a:srgbClr val="ccec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43000"/>
            <a:ext cx="73152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Rage Italic"/>
              </a:rPr>
              <a:t>Sans moi,</a:t>
            </a:r>
            <a:br>
              <a:rPr sz="4000"/>
            </a:br>
            <a:r>
              <a:rPr b="0" lang="en-US" sz="4000" spc="-1" strike="noStrike">
                <a:solidFill>
                  <a:srgbClr val="ccffff"/>
                </a:solidFill>
                <a:latin typeface="Rage Italic"/>
              </a:rPr>
              <a:t>L’ânon dit non</a:t>
            </a:r>
            <a:endParaRPr b="0" lang="en-US" sz="4000" spc="-1" strike="noStrike">
              <a:solidFill>
                <a:srgbClr val="ccffff"/>
              </a:solidFill>
              <a:latin typeface="Tahoma"/>
            </a:endParaRPr>
          </a:p>
        </p:txBody>
      </p:sp>
      <p:sp>
        <p:nvSpPr>
          <p:cNvPr id="95" name="PlaceHolder 2"/>
          <p:cNvSpPr>
            <a:spLocks noGrp="1"/>
          </p:cNvSpPr>
          <p:nvPr>
            <p:ph/>
          </p:nvPr>
        </p:nvSpPr>
        <p:spPr>
          <a:xfrm>
            <a:off x="685800" y="2514600"/>
            <a:ext cx="3657600" cy="838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age Italic"/>
              </a:rPr>
              <a:t>La craie crie</a:t>
            </a:r>
            <a:endParaRPr b="0" lang="en-US" sz="4000" spc="-1" strike="noStrike">
              <a:solidFill>
                <a:srgbClr val="ffffff"/>
              </a:solidFill>
              <a:latin typeface="Tahoma"/>
            </a:endParaRPr>
          </a:p>
        </p:txBody>
      </p:sp>
      <p:sp>
        <p:nvSpPr>
          <p:cNvPr id="96" name="PlaceHolder 3"/>
          <p:cNvSpPr>
            <a:spLocks noGrp="1"/>
          </p:cNvSpPr>
          <p:nvPr>
            <p:ph/>
          </p:nvPr>
        </p:nvSpPr>
        <p:spPr>
          <a:xfrm>
            <a:off x="609480" y="3733920"/>
            <a:ext cx="3810240" cy="137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ff"/>
                </a:solidFill>
                <a:latin typeface="Rage Italic"/>
              </a:rPr>
              <a:t>Et la laisse devient lisse</a:t>
            </a: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97" name="AG00406_" descr=""/>
          <p:cNvPicPr/>
          <p:nvPr/>
        </p:nvPicPr>
        <p:blipFill>
          <a:blip r:embed="rId2"/>
          <a:stretch/>
        </p:blipFill>
        <p:spPr>
          <a:xfrm>
            <a:off x="5334120" y="2514600"/>
            <a:ext cx="2103480" cy="173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Jokerman"/>
              </a:rPr>
              <a:t>Je suis la lettre A !!!</a:t>
            </a:r>
            <a:endParaRPr b="0" lang="en-US" sz="5400" spc="-1" strike="noStrike">
              <a:solidFill>
                <a:srgbClr val="ccffff"/>
              </a:solidFill>
              <a:latin typeface="Tahoma"/>
            </a:endParaRPr>
          </a:p>
        </p:txBody>
      </p:sp>
      <p:pic>
        <p:nvPicPr>
          <p:cNvPr id="99" name="AG00319_" descr=""/>
          <p:cNvPicPr/>
          <p:nvPr/>
        </p:nvPicPr>
        <p:blipFill>
          <a:blip r:embed="rId2"/>
          <a:stretch/>
        </p:blipFill>
        <p:spPr>
          <a:xfrm>
            <a:off x="3657600" y="380880"/>
            <a:ext cx="1943280" cy="1406520"/>
          </a:xfrm>
          <a:prstGeom prst="rect">
            <a:avLst/>
          </a:prstGeom>
          <a:ln w="0">
            <a:noFill/>
          </a:ln>
        </p:spPr>
      </p:pic>
      <p:pic>
        <p:nvPicPr>
          <p:cNvPr id="100" name="j0076134" descr=""/>
          <p:cNvPicPr/>
          <p:nvPr/>
        </p:nvPicPr>
        <p:blipFill>
          <a:blip r:embed="rId3"/>
          <a:stretch/>
        </p:blipFill>
        <p:spPr>
          <a:xfrm>
            <a:off x="3657600" y="4267080"/>
            <a:ext cx="1874880" cy="179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21:07:39Z</dcterms:created>
  <dc:creator>Usager</dc:creator>
  <dc:description/>
  <dc:language>en-US</dc:language>
  <cp:lastModifiedBy>Jean-Paul Lansun</cp:lastModifiedBy>
  <dcterms:modified xsi:type="dcterms:W3CDTF">2002-12-12T05:20:05Z</dcterms:modified>
  <cp:revision>4</cp:revision>
  <dc:subject/>
  <dc:title>QUI SUIS-JE ? </dc:title>
</cp:coreProperties>
</file>